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7.xml.rels" ContentType="application/vnd.openxmlformats-package.relationships+xml"/>
  <Override PartName="/ppt/notesSlides/notesSlide107.xml" ContentType="application/vnd.openxmlformats-officedocument.presentationml.notesSlide+xml"/>
  <Override PartName="/ppt/_rels/presentation.xml.rels" ContentType="application/vnd.openxmlformats-package.relationships+xml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1.wmf" ContentType="image/x-wmf"/>
  <Override PartName="/ppt/media/image109.png" ContentType="image/png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126.png" ContentType="image/png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108.png" ContentType="image/png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37.wmf" ContentType="image/x-wmf"/>
  <Override PartName="/ppt/media/image38.wmf" ContentType="image/x-wmf"/>
  <Override PartName="/ppt/media/image128.wmf" ContentType="image/x-wmf"/>
  <Override PartName="/ppt/media/image31.wmf" ContentType="image/x-wmf"/>
  <Override PartName="/ppt/media/image9.wmf" ContentType="image/x-wmf"/>
  <Override PartName="/ppt/media/image39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42.wmf" ContentType="image/x-wmf"/>
  <Override PartName="/ppt/media/image139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129.wmf" ContentType="image/x-wmf"/>
  <Override PartName="/ppt/media/image32.wmf" ContentType="image/x-wmf"/>
  <Override PartName="/ppt/media/image133.wmf" ContentType="image/x-wmf"/>
  <Override PartName="/ppt/media/image134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160.wmf" ContentType="image/x-wmf"/>
  <Override PartName="/ppt/media/image161.wmf" ContentType="image/x-wmf"/>
  <Override PartName="/ppt/media/image162.wmf" ContentType="image/x-wmf"/>
  <Override PartName="/ppt/media/image40.wmf" ContentType="image/x-wmf"/>
  <Override PartName="/ppt/media/image137.wmf" ContentType="image/x-wmf"/>
  <Override PartName="/ppt/media/image163.wmf" ContentType="image/x-wmf"/>
  <Override PartName="/ppt/media/image44.wmf" ContentType="image/x-wmf"/>
  <Override PartName="/ppt/media/image130.wmf" ContentType="image/x-wmf"/>
  <Override PartName="/ppt/media/image167.wmf" ContentType="image/x-wmf"/>
  <Override PartName="/ppt/media/image45.wmf" ContentType="image/x-wmf"/>
  <Override PartName="/ppt/media/image131.wmf" ContentType="image/x-wmf"/>
  <Override PartName="/ppt/media/image168.wmf" ContentType="image/x-wmf"/>
  <Override PartName="/ppt/media/image46.wmf" ContentType="image/x-wmf"/>
  <Override PartName="/ppt/media/image132.wmf" ContentType="image/x-wmf"/>
  <Override PartName="/ppt/media/image169.wmf" ContentType="image/x-wmf"/>
  <Override PartName="/ppt/media/image41.wmf" ContentType="image/x-wmf"/>
  <Override PartName="/ppt/media/image138.wmf" ContentType="image/x-wmf"/>
  <Override PartName="/ppt/media/image164.wmf" ContentType="image/x-wmf"/>
  <Override PartName="/ppt/media/image53.wmf" ContentType="image/x-wmf"/>
  <Override PartName="/ppt/media/image176.wmf" ContentType="image/x-wmf"/>
  <Override PartName="/ppt/media/image153.wmf" ContentType="image/x-wmf"/>
  <Override PartName="/ppt/media/image142.wmf" ContentType="image/x-wmf"/>
  <Override PartName="/ppt/media/image43.wmf" ContentType="image/x-wmf"/>
  <Override PartName="/ppt/media/image166.wmf" ContentType="image/x-wmf"/>
  <Override PartName="/ppt/media/image55.wmf" ContentType="image/x-wmf"/>
  <Override PartName="/ppt/media/image141.wmf" ContentType="image/x-wmf"/>
  <Override PartName="/ppt/media/image178.wmf" ContentType="image/x-wmf"/>
  <Override PartName="/ppt/media/image143.wmf" ContentType="image/x-wmf"/>
  <Override PartName="/ppt/media/image152.wmf" ContentType="image/x-wmf"/>
  <Override PartName="/ppt/media/image150.wmf" ContentType="image/x-wmf"/>
  <Override PartName="/ppt/media/image147.wmf" ContentType="image/x-wmf"/>
  <Override PartName="/ppt/media/image50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54.wmf" ContentType="image/x-wmf"/>
  <Override PartName="/ppt/media/image177.wmf" ContentType="image/x-wmf"/>
  <Override PartName="/ppt/media/image140.wmf" ContentType="image/x-wmf"/>
  <Override PartName="/ppt/media/image89.wmf" ContentType="image/x-wmf"/>
  <Override PartName="/ppt/media/image118.png" ContentType="image/png"/>
  <Override PartName="/ppt/media/image136.wmf" ContentType="image/x-wmf"/>
  <Override PartName="/ppt/media/image62.wmf" ContentType="image/x-wmf"/>
  <Override PartName="/ppt/media/image159.wmf" ContentType="image/x-wmf"/>
  <Override PartName="/ppt/media/image7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1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12.png" ContentType="image/png"/>
  <Override PartName="/ppt/media/image15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media/image81.wmf" ContentType="image/x-wmf"/>
  <Override PartName="/ppt/media/image13.wmf" ContentType="image/x-wmf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33.wmf" ContentType="image/x-wmf"/>
  <Override PartName="/ppt/media/image3.wmf" ContentType="image/x-wmf"/>
  <Override PartName="/ppt/media/image155.wmf" ContentType="image/x-wmf"/>
  <Override PartName="/ppt/media/image80.wmf" ContentType="image/x-wmf"/>
  <Override PartName="/ppt/media/image12.wmf" ContentType="image/x-wmf"/>
  <Override PartName="/ppt/media/image94.wmf" ContentType="image/x-wmf"/>
  <Override PartName="/ppt/media/image26.wmf" ContentType="image/x-wmf"/>
  <Override PartName="/ppt/media/image2.wmf" ContentType="image/x-wmf"/>
  <Override PartName="/ppt/media/image154.wmf" ContentType="image/x-wmf"/>
  <Override PartName="/ppt/media/image93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156.wmf" ContentType="image/x-wmf"/>
  <Override PartName="/ppt/media/image1.jpeg" ContentType="image/jpeg"/>
  <Override PartName="/ppt/media/image165.wmf" ContentType="image/x-wmf"/>
  <Override PartName="/ppt/media/image56.wmf" ContentType="image/x-wmf"/>
  <Override PartName="/ppt/media/image16.png" ContentType="image/png"/>
  <Override PartName="/ppt/media/image151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63.wmf" ContentType="image/x-wmf"/>
  <Override PartName="/ppt/media/image6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6A62-F4AC-451D-A491-7CB1C92802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687240" y="685800"/>
            <a:ext cx="548352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98C-9BDB-483C-A7C3-D88D3203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678-44F9-4BB2-A217-62F63957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76C-4EE8-4AA4-9B6E-F5578F6E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31A-6378-47FA-8FB5-4DA8451C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287-67DE-4DDC-8B15-5B1586C9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F8B9-F952-4F4B-804B-36BFB6D9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F4E-7DDB-440A-91F5-2EA1D087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1E0-61C5-4398-A4AB-A1EB697C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3AC8-D46F-4CA7-9543-1C2F92BA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829-A7AA-4983-937C-14B4CE79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16A-185C-4DF1-87AA-64FB004A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5591-C863-441D-805A-F21BD24B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86B8-21E2-4E89-8B36-756ABFB19F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9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50.wmf"/><Relationship Id="rId8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2.wmf"/><Relationship Id="rId6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3.wmf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5.wmf"/><Relationship Id="rId6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6.wmf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8.wmf"/><Relationship Id="rId6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0.wmf"/><Relationship Id="rId6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2.wmf"/><Relationship Id="rId4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6.wmf"/><Relationship Id="rId6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7.wmf"/><Relationship Id="rId4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8.wmf"/><Relationship Id="rId4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0.wmf"/><Relationship Id="rId6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2.wmf"/><Relationship Id="rId6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4.wmf"/><Relationship Id="rId6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5.wmf"/><Relationship Id="rId4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7.wmf"/><Relationship Id="rId6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5.wmf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7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9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1.wmf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6.wmf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0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6.wmf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8.wmf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0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1.wmf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3.wmf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4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6.wmf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7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9.wmf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1.wmf"/><Relationship Id="rId6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3.wmf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4.wmf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8.wmf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9.wmf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0.wmf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2.wmf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3.wm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5.wmf"/><Relationship Id="rId6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7.wmf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10.wmf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1.wmf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15.wmf"/><Relationship Id="rId6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6.wmf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7.wmf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8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19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120.wmf"/><Relationship Id="rId7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1.wmf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3.wmf"/><Relationship Id="rId6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5.wmf"/><Relationship Id="rId6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6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27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128.wmf"/><Relationship Id="rId7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9.wmf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1.wmf"/><Relationship Id="rId4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3.wmf"/><Relationship Id="rId6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5.wmf"/><Relationship Id="rId6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7.wmf"/><Relationship Id="rId6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39.wmf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0.wmf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1.wmf"/><Relationship Id="rId4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3.wmf"/><Relationship Id="rId6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5.wmf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78560" y="1870200"/>
            <a:ext cx="19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第四单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787400" y="609480"/>
          <a:ext cx="679320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609480"/>
                    <a:ext cx="679320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668600" y="195120"/>
          <a:ext cx="6813360" cy="2146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95120"/>
                    <a:ext cx="681336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1324080" y="2103480"/>
          <a:ext cx="7648560" cy="3989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24080" y="2103480"/>
                    <a:ext cx="764856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1392120" y="4857840"/>
          <a:ext cx="7497720" cy="1722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2120" y="4857840"/>
                    <a:ext cx="7497720" cy="17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254240" y="277920"/>
          <a:ext cx="7735680" cy="529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4240" y="277920"/>
                    <a:ext cx="7735680" cy="52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1668600" y="5003640"/>
          <a:ext cx="7466040" cy="884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5003640"/>
                    <a:ext cx="746604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192320" y="527040"/>
          <a:ext cx="7951680" cy="544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92320" y="527040"/>
                    <a:ext cx="795168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1116000" y="195120"/>
          <a:ext cx="7813800" cy="500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95120"/>
                    <a:ext cx="78138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1184400" y="4762440"/>
          <a:ext cx="7812000" cy="1982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4400" y="4762440"/>
                    <a:ext cx="781200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1046160" y="444600"/>
          <a:ext cx="7893000" cy="5521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6160" y="444600"/>
                    <a:ext cx="789300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1600200" y="195120"/>
          <a:ext cx="6811920" cy="3714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5120"/>
                    <a:ext cx="68119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392120" y="4175280"/>
          <a:ext cx="7445520" cy="2195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2120" y="4175280"/>
                    <a:ext cx="744552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324080" y="277920"/>
          <a:ext cx="7594560" cy="4992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4080" y="277920"/>
                    <a:ext cx="7594560" cy="49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392120" y="5046840"/>
          <a:ext cx="6978600" cy="1201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92120" y="5046840"/>
                    <a:ext cx="69786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1254240" y="277920"/>
          <a:ext cx="7754760" cy="5489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4240" y="277920"/>
                    <a:ext cx="7754760" cy="54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254240" y="360360"/>
          <a:ext cx="7788240" cy="561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4240" y="360360"/>
                    <a:ext cx="778824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770040" y="112680"/>
          <a:ext cx="8281800" cy="297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0040" y="112680"/>
                    <a:ext cx="828180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1041480" y="2792520"/>
          <a:ext cx="8102520" cy="4035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1480" y="2792520"/>
                    <a:ext cx="810252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668600" y="1273320"/>
          <a:ext cx="680400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273320"/>
                    <a:ext cx="680400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116000" y="351000"/>
          <a:ext cx="7834320" cy="4984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51000"/>
                    <a:ext cx="78343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1185840" y="5092560"/>
          <a:ext cx="6811920" cy="906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5840" y="5092560"/>
                    <a:ext cx="681192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316160" y="692280"/>
          <a:ext cx="7886520" cy="5032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16160" y="692280"/>
                    <a:ext cx="7886520" cy="50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1324080" y="360360"/>
          <a:ext cx="7648560" cy="557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4080" y="360360"/>
                    <a:ext cx="764856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1254240" y="277920"/>
          <a:ext cx="7721640" cy="499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4240" y="277920"/>
                    <a:ext cx="772164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1270080" y="4175280"/>
          <a:ext cx="7656480" cy="2155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0080" y="4175280"/>
                    <a:ext cx="765648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1668600" y="444600"/>
          <a:ext cx="6813360" cy="160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444600"/>
                    <a:ext cx="681336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1254240" y="2103480"/>
          <a:ext cx="7794360" cy="3956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4240" y="2103480"/>
                    <a:ext cx="779436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977760" y="195120"/>
          <a:ext cx="7952040" cy="4353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7760" y="195120"/>
                    <a:ext cx="795204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1185840" y="3933720"/>
          <a:ext cx="7728120" cy="2314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5840" y="3933720"/>
                    <a:ext cx="772812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1204920" y="363600"/>
          <a:ext cx="7853400" cy="561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4920" y="363600"/>
                    <a:ext cx="785340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1116000" y="941400"/>
          <a:ext cx="7866000" cy="2755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941400"/>
                    <a:ext cx="786600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1530360" y="3346560"/>
          <a:ext cx="6813720" cy="2146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3346560"/>
                    <a:ext cx="68137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1343160" y="1355760"/>
          <a:ext cx="7583400" cy="323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43160" y="1355760"/>
                    <a:ext cx="75834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855800" y="609480"/>
          <a:ext cx="679464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5800" y="609480"/>
                    <a:ext cx="679464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876320" y="527040"/>
          <a:ext cx="6794640" cy="530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6320" y="527040"/>
                    <a:ext cx="679464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994040" y="527040"/>
          <a:ext cx="6794280" cy="515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4040" y="527040"/>
                    <a:ext cx="679428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925640" y="527040"/>
          <a:ext cx="67928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5640" y="527040"/>
                    <a:ext cx="67928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11680" y="527040"/>
            <a:ext cx="2901960" cy="70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1579680" y="1508040"/>
          <a:ext cx="6794280" cy="424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9680" y="1508040"/>
                    <a:ext cx="679428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708200" y="195120"/>
          <a:ext cx="6804000" cy="257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8200" y="195120"/>
                    <a:ext cx="68040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668600" y="2682720"/>
          <a:ext cx="6813360" cy="3789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2682720"/>
                    <a:ext cx="681336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668600" y="1023840"/>
          <a:ext cx="6813360" cy="4432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023840"/>
                    <a:ext cx="681336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600200" y="195120"/>
          <a:ext cx="68119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5120"/>
                    <a:ext cx="68119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600200" y="3994200"/>
          <a:ext cx="6811920" cy="2503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994200"/>
                    <a:ext cx="681192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392120" y="2849400"/>
          <a:ext cx="6794640" cy="1065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2120" y="2849400"/>
                    <a:ext cx="679464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768320" y="609480"/>
          <a:ext cx="681228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8320" y="609480"/>
                    <a:ext cx="681228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630440" y="1522440"/>
          <a:ext cx="681192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522440"/>
                    <a:ext cx="68119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719360" y="195120"/>
          <a:ext cx="6792840" cy="506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9360" y="195120"/>
                    <a:ext cx="679284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698480" y="5126040"/>
          <a:ext cx="681372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5126040"/>
                    <a:ext cx="68137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630440" y="60948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60948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668600" y="195120"/>
          <a:ext cx="681336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95120"/>
                    <a:ext cx="681336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668600" y="3925800"/>
          <a:ext cx="681336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3925800"/>
                    <a:ext cx="681336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30440" y="195120"/>
          <a:ext cx="6811920" cy="5150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95120"/>
                    <a:ext cx="6811920" cy="51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668600" y="5210280"/>
          <a:ext cx="681336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5210280"/>
                    <a:ext cx="681336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649520" y="609480"/>
          <a:ext cx="67928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9520" y="609480"/>
                    <a:ext cx="67928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698480" y="858960"/>
          <a:ext cx="6813720" cy="450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858960"/>
                    <a:ext cx="681372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698480" y="2019240"/>
          <a:ext cx="681372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2019240"/>
                    <a:ext cx="68137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600200" y="609480"/>
          <a:ext cx="6811920" cy="507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609480"/>
                    <a:ext cx="681192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876320" y="865080"/>
          <a:ext cx="6794640" cy="513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6320" y="865080"/>
                    <a:ext cx="67946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98480" y="2185920"/>
          <a:ext cx="681372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2185920"/>
                    <a:ext cx="68137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698480" y="609480"/>
          <a:ext cx="68137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609480"/>
                    <a:ext cx="68137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66880" y="609480"/>
          <a:ext cx="6813720" cy="53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6880" y="609480"/>
                    <a:ext cx="6813720" cy="53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38440" y="195120"/>
          <a:ext cx="68119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95120"/>
                    <a:ext cx="68119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768320" y="3922560"/>
          <a:ext cx="681228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8320" y="3922560"/>
                    <a:ext cx="681228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668600" y="360360"/>
          <a:ext cx="681336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360360"/>
                    <a:ext cx="68133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8600" y="4754520"/>
          <a:ext cx="681336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754520"/>
                    <a:ext cx="681336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717560" y="609480"/>
          <a:ext cx="67946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7560" y="609480"/>
                    <a:ext cx="67946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560600" y="360360"/>
          <a:ext cx="6813360" cy="5005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360360"/>
                    <a:ext cx="681336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600200" y="5292720"/>
          <a:ext cx="681192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5292720"/>
                    <a:ext cx="68119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600200" y="444600"/>
          <a:ext cx="6811920" cy="4503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44600"/>
                    <a:ext cx="68119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600200" y="4921200"/>
          <a:ext cx="6811920" cy="128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4921200"/>
                    <a:ext cx="681192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600200" y="609480"/>
          <a:ext cx="6792840" cy="5342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609480"/>
                    <a:ext cx="679284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600200" y="52704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2704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846440" y="858960"/>
          <a:ext cx="6804000" cy="450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6440" y="858960"/>
                    <a:ext cx="680400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600200" y="360360"/>
          <a:ext cx="6811920" cy="321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60360"/>
                    <a:ext cx="681192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738440" y="3591000"/>
          <a:ext cx="6811920" cy="2574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38440" y="3591000"/>
                    <a:ext cx="68119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560600" y="1936800"/>
          <a:ext cx="681336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1936800"/>
                    <a:ext cx="681336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630440" y="1273320"/>
          <a:ext cx="68119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273320"/>
                    <a:ext cx="6811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600200" y="360360"/>
          <a:ext cx="68119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60360"/>
                    <a:ext cx="6811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668600" y="4068720"/>
          <a:ext cx="6813360" cy="1930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068720"/>
                    <a:ext cx="681336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668600" y="195120"/>
          <a:ext cx="6813360" cy="128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95120"/>
                    <a:ext cx="681336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668600" y="1444680"/>
          <a:ext cx="6794280" cy="51354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1444680"/>
                    <a:ext cx="679428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671480" y="195120"/>
          <a:ext cx="6794640" cy="442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195120"/>
                    <a:ext cx="679464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698480" y="3922560"/>
          <a:ext cx="681372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3922560"/>
                    <a:ext cx="68137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738440" y="360360"/>
          <a:ext cx="68119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360360"/>
                    <a:ext cx="6811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768320" y="4087800"/>
          <a:ext cx="681228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8320" y="4087800"/>
                    <a:ext cx="681228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698480" y="776160"/>
          <a:ext cx="6813720" cy="514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776160"/>
                    <a:ext cx="681372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533600" y="608040"/>
          <a:ext cx="6794280" cy="5268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608040"/>
                    <a:ext cx="679428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630440" y="2103480"/>
          <a:ext cx="6811920" cy="1928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2103480"/>
                    <a:ext cx="68119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994040" y="596880"/>
          <a:ext cx="6794280" cy="540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94040" y="596880"/>
                    <a:ext cx="6794280" cy="54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630440" y="112680"/>
          <a:ext cx="6811920" cy="50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112680"/>
                    <a:ext cx="681192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668600" y="5170320"/>
          <a:ext cx="6813360" cy="1285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5170320"/>
                    <a:ext cx="68133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600200" y="276120"/>
          <a:ext cx="6792840" cy="4494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76120"/>
                    <a:ext cx="679284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630440" y="4087800"/>
          <a:ext cx="681192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4087800"/>
                    <a:ext cx="68119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530360" y="609480"/>
          <a:ext cx="67946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609480"/>
                    <a:ext cx="67946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717560" y="527040"/>
          <a:ext cx="67946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7560" y="527040"/>
                    <a:ext cx="67946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668600" y="692280"/>
          <a:ext cx="681336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692280"/>
                    <a:ext cx="681336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668600" y="444600"/>
          <a:ext cx="681336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444600"/>
                    <a:ext cx="681336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668600" y="2533680"/>
          <a:ext cx="6813360" cy="3216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2533680"/>
                    <a:ext cx="681336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1560600" y="941400"/>
          <a:ext cx="681336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941400"/>
                    <a:ext cx="68133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668600" y="112680"/>
          <a:ext cx="6813360" cy="321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12680"/>
                    <a:ext cx="681336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698480" y="3197160"/>
          <a:ext cx="6813720" cy="3216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3197160"/>
                    <a:ext cx="681372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1600200" y="112680"/>
          <a:ext cx="6811920" cy="4503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12680"/>
                    <a:ext cx="681192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600200" y="4506840"/>
          <a:ext cx="6811920" cy="1928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4506840"/>
                    <a:ext cx="68119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600200" y="360360"/>
          <a:ext cx="68119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60360"/>
                    <a:ext cx="68119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630440" y="4317840"/>
          <a:ext cx="6811920" cy="1930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4317840"/>
                    <a:ext cx="681192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855800" y="609480"/>
          <a:ext cx="6794640" cy="5308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5800" y="609480"/>
                    <a:ext cx="6794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630440" y="609480"/>
          <a:ext cx="68119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609480"/>
                    <a:ext cx="68119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600200" y="277920"/>
          <a:ext cx="68119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77920"/>
                    <a:ext cx="68119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68600" y="4235400"/>
          <a:ext cx="6813360" cy="19303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235400"/>
                    <a:ext cx="681336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787400" y="609480"/>
          <a:ext cx="6793200" cy="5364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609480"/>
                    <a:ext cx="6793200" cy="53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668600" y="195120"/>
          <a:ext cx="681336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95120"/>
                    <a:ext cx="68133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1668600" y="4732200"/>
          <a:ext cx="6813360" cy="1930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732200"/>
                    <a:ext cx="681336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560600" y="858960"/>
          <a:ext cx="6813360" cy="450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858960"/>
                    <a:ext cx="681336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1600200" y="112680"/>
          <a:ext cx="6811920" cy="386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12680"/>
                    <a:ext cx="6811920" cy="38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630440" y="3925800"/>
          <a:ext cx="681192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3925800"/>
                    <a:ext cx="68119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1668600" y="444600"/>
          <a:ext cx="6813360" cy="386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444600"/>
                    <a:ext cx="681336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698480" y="4317840"/>
          <a:ext cx="6813720" cy="1930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4317840"/>
                    <a:ext cx="681372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530360" y="360360"/>
          <a:ext cx="7062840" cy="451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360360"/>
                    <a:ext cx="706284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504800" y="3594240"/>
          <a:ext cx="7075800" cy="2023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04800" y="3594240"/>
                    <a:ext cx="707580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560600" y="692280"/>
          <a:ext cx="6813360" cy="50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692280"/>
                    <a:ext cx="6813360" cy="50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1461960" y="277920"/>
          <a:ext cx="6811920" cy="3716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277920"/>
                    <a:ext cx="681192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461960" y="3911760"/>
          <a:ext cx="6811920" cy="2501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61960" y="3911760"/>
                    <a:ext cx="681192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76240" y="692280"/>
          <a:ext cx="680436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6240" y="692280"/>
                    <a:ext cx="680436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1668600" y="195120"/>
          <a:ext cx="6813360" cy="185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95120"/>
                    <a:ext cx="681336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630440" y="1971720"/>
          <a:ext cx="6811920" cy="4359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1971720"/>
                    <a:ext cx="681192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630440" y="692280"/>
          <a:ext cx="6811920" cy="50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692280"/>
                    <a:ext cx="681192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560600" y="692280"/>
          <a:ext cx="6813360" cy="50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692280"/>
                    <a:ext cx="6813360" cy="50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600200" y="360360"/>
          <a:ext cx="6811920" cy="250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60360"/>
                    <a:ext cx="681192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30360" y="2854440"/>
          <a:ext cx="6813720" cy="3144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2854440"/>
                    <a:ext cx="681372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533600" y="528480"/>
          <a:ext cx="6794280" cy="5268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528480"/>
                    <a:ext cx="679428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1530360" y="112680"/>
          <a:ext cx="6813720" cy="314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12680"/>
                    <a:ext cx="681372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530360" y="3112920"/>
          <a:ext cx="6813720" cy="3218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3112920"/>
                    <a:ext cx="681372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530360" y="195120"/>
          <a:ext cx="6813720" cy="3862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95120"/>
                    <a:ext cx="681372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1530360" y="4005360"/>
          <a:ext cx="6813720" cy="2574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4005360"/>
                    <a:ext cx="68137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603600" y="277920"/>
            <a:ext cx="2906640" cy="7016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087800" y="1023840"/>
            <a:ext cx="1913040" cy="4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1600200" y="1771560"/>
          <a:ext cx="6811920" cy="3861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1771560"/>
                    <a:ext cx="6811920" cy="38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1530360" y="692280"/>
          <a:ext cx="6813720" cy="64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692280"/>
                    <a:ext cx="68137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982960" y="1687680"/>
            <a:ext cx="4216320" cy="261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1542960" y="527040"/>
          <a:ext cx="703764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2960" y="527040"/>
                    <a:ext cx="703764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806480" y="692280"/>
          <a:ext cx="6794640" cy="5151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6480" y="692280"/>
                    <a:ext cx="679464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738440" y="360360"/>
          <a:ext cx="681192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360360"/>
                    <a:ext cx="68119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768320" y="2136600"/>
          <a:ext cx="6812280" cy="3862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68320" y="2136600"/>
                    <a:ext cx="6812280" cy="38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1836720" y="692280"/>
          <a:ext cx="681372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6720" y="692280"/>
                    <a:ext cx="681372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1776240" y="1854360"/>
          <a:ext cx="680436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6240" y="1854360"/>
                    <a:ext cx="680436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019400" y="277920"/>
            <a:ext cx="1911600" cy="43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1530360" y="858960"/>
          <a:ext cx="6813720" cy="2501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0360" y="858960"/>
                    <a:ext cx="681372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492200" y="3424320"/>
          <a:ext cx="6811920" cy="2574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2200" y="3424320"/>
                    <a:ext cx="68119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1600200" y="608040"/>
          <a:ext cx="67928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608040"/>
                    <a:ext cx="67928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1530360" y="277920"/>
          <a:ext cx="68137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277920"/>
                    <a:ext cx="68137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1530360" y="4087800"/>
          <a:ext cx="6813720" cy="25750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4087800"/>
                    <a:ext cx="68137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1738440" y="276120"/>
          <a:ext cx="6792840" cy="3206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276120"/>
                    <a:ext cx="6792840" cy="32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1717560" y="3013200"/>
          <a:ext cx="6794640" cy="3484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7560" y="3013200"/>
                    <a:ext cx="6794640" cy="34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4157640" y="195120"/>
            <a:ext cx="1911240" cy="43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3" name=""/>
          <p:cNvGraphicFramePr/>
          <p:nvPr/>
        </p:nvGraphicFramePr>
        <p:xfrm>
          <a:off x="1461960" y="1146240"/>
          <a:ext cx="7392960" cy="4106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1960" y="1146240"/>
                    <a:ext cx="739296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254240" y="4716360"/>
          <a:ext cx="6811920" cy="1033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4716360"/>
                    <a:ext cx="68119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392120" y="858960"/>
          <a:ext cx="7340760" cy="503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2120" y="858960"/>
                    <a:ext cx="7340760" cy="50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527120" y="858960"/>
          <a:ext cx="7399440" cy="4698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7120" y="858960"/>
                    <a:ext cx="739944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708200" y="1522440"/>
          <a:ext cx="6804000" cy="3217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8200" y="1522440"/>
                    <a:ext cx="680400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1046160" y="444600"/>
          <a:ext cx="7966080" cy="578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6160" y="444600"/>
                    <a:ext cx="79660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907920" y="277920"/>
          <a:ext cx="7974000" cy="103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7920" y="277920"/>
                    <a:ext cx="7974000" cy="10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1116000" y="1440000"/>
          <a:ext cx="7715160" cy="4565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1440000"/>
                    <a:ext cx="771516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461960" y="30240"/>
          <a:ext cx="7234200" cy="556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30240"/>
                    <a:ext cx="7234200" cy="55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1254240" y="4506840"/>
          <a:ext cx="7800840" cy="1800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54240" y="4506840"/>
                    <a:ext cx="780084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"/>
          <p:cNvGraphicFramePr/>
          <p:nvPr/>
        </p:nvGraphicFramePr>
        <p:xfrm>
          <a:off x="1254240" y="195120"/>
          <a:ext cx="7807320" cy="473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4240" y="195120"/>
                    <a:ext cx="780732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1530360" y="4754520"/>
          <a:ext cx="6813720" cy="1609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30360" y="4754520"/>
                    <a:ext cx="681372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461960" y="430200"/>
          <a:ext cx="7378920" cy="556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430200"/>
                    <a:ext cx="7378920" cy="55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284120" y="4965840"/>
          <a:ext cx="6813720" cy="1033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84120" y="4965840"/>
                    <a:ext cx="6813720" cy="10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1033560" y="527040"/>
          <a:ext cx="8110440" cy="544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33560" y="527040"/>
                    <a:ext cx="811044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977760" y="609480"/>
          <a:ext cx="8070840" cy="5791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7760" y="609480"/>
                    <a:ext cx="80708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052640" y="360360"/>
          <a:ext cx="8091360" cy="1816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2640" y="360360"/>
                    <a:ext cx="809136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600200" y="2344680"/>
          <a:ext cx="6792840" cy="4068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2344680"/>
                    <a:ext cx="679284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1530360" y="277920"/>
          <a:ext cx="6804000" cy="107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277920"/>
                    <a:ext cx="680400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1116000" y="1440000"/>
          <a:ext cx="7675560" cy="5110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1440000"/>
                    <a:ext cx="767556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1324080" y="195120"/>
          <a:ext cx="7661160" cy="184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24080" y="195120"/>
                    <a:ext cx="766116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1116000" y="1190520"/>
          <a:ext cx="7873920" cy="4994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1190520"/>
                    <a:ext cx="787392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7T02:57:07Z</dcterms:created>
  <dc:creator>微软用户</dc:creator>
  <dc:description/>
  <dc:language>en-US</dc:language>
  <cp:lastModifiedBy>Microsoft</cp:lastModifiedBy>
  <dcterms:modified xsi:type="dcterms:W3CDTF">2019-02-18T12:39:23Z</dcterms:modified>
  <cp:revision>72</cp:revision>
  <dc:subject/>
  <dc:title>幻灯片 1</dc:title>
</cp:coreProperties>
</file>